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B34-9809-454D-BABC-060E1A0D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6E0-9288-43C6-8AC6-76D01DEB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71F3-DA36-4E02-BCEF-F7288182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A12-BBD3-413A-8A6C-8244BBA8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D7EC-4AFE-425C-AB98-6FAEDDD2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7DC9-3C3C-4A09-8417-6CB0D943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6BFE-D8B9-4413-8908-BEEAFD81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035E-40C1-492F-9ED2-C007FE61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70EA-6814-4248-BCE7-6E056F8A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6D95-687C-4ADC-97EF-D3F8A1CA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0185-278D-4ED2-9D9F-A3800710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6D9-9D97-4535-816D-1846F470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8C5F-92C4-4C0C-90FF-9F06F431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1584-0533-4EC6-A2FF-47C005B2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21E6-2363-4370-AB89-8D3C2E13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2952-C733-4DFC-A571-EB82C5B2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D651-3FC2-42D3-87B8-8FD35DDC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9D76B-7510-4133-9D4E-6F316450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068F5-01CE-4919-99C2-CB671915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D45C6-CF7F-45DF-B89B-4CFAEE4D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D0C52-B03C-41C5-84B7-E16FCCB3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8E2F8-B7EF-4365-B63A-3C620AFB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B14C-92CC-4B40-9213-6B8DF8B8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AC29D-DB01-4716-8A2E-566FE018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12C9F-A15A-474C-B5C6-F8179996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DEBF4-C6D7-4157-92EE-B85A9C44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1D313-94B1-4C3E-870F-13A6C2B2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B60C3-289D-4A60-B392-EA0C23AB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5D07F-3DE7-422E-AAAE-9ECA9891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A5FF2-2989-4AAC-9440-705B2A8B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B933B-CA35-4EAA-9D70-6FCCC8BF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C4D26-5268-47A1-9430-6203EC01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684B8-CDAB-4AE5-88F2-4B339904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761C-231D-4A5D-B412-D4525E4F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AD34C-AB55-4FA5-95F2-6668348C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46C94-4541-4E93-93F4-D9277E23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A39FF-8948-4B56-A112-95A61982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FC821-1407-4250-BBC5-D6CBA690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D5DDA-AB67-4913-97EA-1E8BD498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EFD38-6B5F-40C6-9B1A-030E270D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BAE5B-BC5B-4B63-BC00-CB62FDB6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3654F-4B7B-4D6F-A028-A71F3EE4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E8B05-660B-4447-BF3F-10C302FB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04483-16A4-4BC0-A296-EAD6A371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0D35-1CC8-43EE-944C-3589ED68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D7202-959C-45D0-86FE-B82CEB96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C428D-D3CC-4F3A-A2B5-9F31981E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C42DE-BE80-4298-9735-01C6A8C4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AB45C-D07A-4E5B-8E9C-A6D07A12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A660A-C85C-4BEA-B0C0-80A53E82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2609A-5716-4BD0-B491-323889D1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768CA-89FB-4621-BA88-E1DF5C4C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8B62F-B425-4880-B791-7B0F4F3F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223F3-BC0C-4122-88AA-4542355A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E866E-6B0C-4ACD-B44C-B227AC1A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88B-EB29-4453-BD5E-BF8FAE53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2FBD8-8166-4389-9B85-7DB11335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0F082-7C8B-46CD-9862-D3E669AA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4F1C8-387B-49A8-9C1C-509D6680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60C66-0E2C-4864-8F9E-54E8D825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A5C61-200C-4030-9FE5-44C715D7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5D2BE-AD7D-4B43-AAEC-1575768C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4BA8A-7CBF-4DE6-AD15-500298F7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D66A3-ABC0-4107-895A-C6508226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20F2A-958F-4F4D-AE9F-9458DFE8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2CA10-092D-4D99-B5CF-CCE34C46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59ED-F5B5-4DD1-968D-EB1CDD50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2AEAB-6A2A-4AA8-AEF5-DC326710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45C5D-8183-49DC-9EEA-681E123E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C4BFD-95C7-4F0E-8496-2F87D2FB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8C113-6DE0-42EC-B1A1-65CF91FA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CEFAB-D3D7-4287-8E20-D4819BAE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F41B7-5B94-46B9-8C45-1E9F5BC8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E0B28-34A0-4FED-87D5-7A2ACF8F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BEB83-205D-4F25-B716-31015942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49DF5-6750-4B2F-A413-4AD29A2C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D23DF-D091-4BE3-9C0B-6D317A84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56D-417C-4803-9A6A-FE21E195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FE324-A261-485C-9D93-2FC1C33E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8257B-F3D3-43E9-A926-58A91987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540BA-875C-4130-83D1-6A27539B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2747B-A0D5-4EAA-83AE-676970C7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505A9-AA82-47B8-811C-6B652D8B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0A878-A95E-4CEE-AD42-D25ACE9D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840F0-E65C-4C56-9858-E8CF2E04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C01AB-FF8D-4421-BA2D-6C530687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6A54A-8B8F-4833-BCA5-8D020BD6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54B46-5D33-4092-9F2D-DCC4035E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4213-57B1-49A1-BB61-E1E3DC12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2D982-3350-4D8E-9FBD-662F7139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C22F0-BD65-49A3-949B-56C9A979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22F98-10F1-45FC-A98E-E74E137C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70C2E-27DF-4C6D-AF34-0BB4F183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9663F-0037-4D48-BB2F-53706D39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0F7FB-BE59-4283-83DF-62E3C9A3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E3DD5-4E4B-4DA0-9E09-3D9A152C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CB7A-894D-4AE3-A9F1-4D8C07846E2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3B15-687E-4286-88CD-68A36439857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2725-84AE-446C-AD01-A5251B8CEBAA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5070-78C2-4B8C-AB47-6A2A7763ADF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82DB-B2A0-4193-AF13-EFA701A77B5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5387-8D03-4E4C-BF80-25D2B56C88F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2F6F-882D-4CE1-BBBB-869AAE13ADF3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10CD-8B34-40A4-BC33-9C174D523C4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2014 AP English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Literature and Composition Result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O’Gorman High Scho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sul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2057400"/>
          <a:ext cx="8229600" cy="1482840"/>
        </p:xfrm>
        <a:graphic>
          <a:graphicData uri="http://schemas.openxmlformats.org/drawingml/2006/table">
            <a:tbl>
              <a:tblPr/>
              <a:tblGrid>
                <a:gridCol w="2895480"/>
                <a:gridCol w="990720"/>
                <a:gridCol w="1143000"/>
                <a:gridCol w="1066680"/>
                <a:gridCol w="1067040"/>
                <a:gridCol w="106668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Overall Score Distrib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umber of O’Gorman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at O’Gor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Glob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  <p:sp>
        <p:nvSpPr>
          <p:cNvPr id="356" name="TextBox 4"/>
          <p:cNvSpPr/>
          <p:nvPr/>
        </p:nvSpPr>
        <p:spPr>
          <a:xfrm>
            <a:off x="228600" y="4191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43.3% of O’Gorman students scored a 4 or 5 while only 25.4% scored a 4 or 5 glob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76.7% of O’Gorman students passed the test while 54.9% passed the test glob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ree Respons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57200" y="1752480"/>
          <a:ext cx="8229600" cy="2027520"/>
        </p:xfrm>
        <a:graphic>
          <a:graphicData uri="http://schemas.openxmlformats.org/drawingml/2006/table">
            <a:tbl>
              <a:tblPr/>
              <a:tblGrid>
                <a:gridCol w="4648320"/>
                <a:gridCol w="1143000"/>
                <a:gridCol w="1218960"/>
                <a:gridCol w="121932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Question/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ax Possible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  <p:sp>
        <p:nvSpPr>
          <p:cNvPr id="359" name="TextBox 4"/>
          <p:cNvSpPr/>
          <p:nvPr/>
        </p:nvSpPr>
        <p:spPr>
          <a:xfrm>
            <a:off x="457200" y="3962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’Gorman students had higher means in each respons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ultiple Choic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57200" y="1981080"/>
          <a:ext cx="8229600" cy="2001960"/>
        </p:xfrm>
        <a:graphic>
          <a:graphicData uri="http://schemas.openxmlformats.org/drawingml/2006/table">
            <a:tbl>
              <a:tblPr/>
              <a:tblGrid>
                <a:gridCol w="4800600"/>
                <a:gridCol w="1143000"/>
                <a:gridCol w="1143000"/>
                <a:gridCol w="11430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tent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umber of Ques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-2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-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  <p:sp>
        <p:nvSpPr>
          <p:cNvPr id="362" name="TextBox 7"/>
          <p:cNvSpPr/>
          <p:nvPr/>
        </p:nvSpPr>
        <p:spPr>
          <a:xfrm>
            <a:off x="457200" y="44956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’Gorman students had higher means in each respons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storical Comparis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57200" y="1447920"/>
          <a:ext cx="8229600" cy="47196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str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tal in 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ean Score (Out of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% Score 3 or Hig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ho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6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21:29:07Z</dcterms:created>
  <dc:creator>Administrator</dc:creator>
  <dc:description/>
  <dc:language>en-US</dc:language>
  <cp:lastModifiedBy>Van Engen, Jason</cp:lastModifiedBy>
  <dcterms:modified xsi:type="dcterms:W3CDTF">2015-03-06T19:29:20Z</dcterms:modified>
  <cp:revision>20</cp:revision>
  <dc:subject/>
  <dc:title>2011 AP English  Literature and Composition Results</dc:title>
</cp:coreProperties>
</file>